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2A1-5CC6-45DA-8AE6-1DF4B9C2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222-9EFD-4257-87B7-E5EF18B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C30-08F6-4A47-9C41-9EA83158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CB1-723F-4A00-813F-0380B766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E56-82F5-4B18-B24A-9C7F35D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1383-94FC-488A-B3C6-E02AE73D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A3E-6370-4416-AC61-C16B4C9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BA6-550D-4556-BF58-E858FEE1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9D4C-1550-4C29-8055-50223E9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8CEB-7C9D-46D5-8226-39DA42F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252A-BBF0-4EBD-9F6E-8B0F925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522-DB9F-4E3D-83F9-3A647C1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6A19-24BC-4CE5-A765-D523DEA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F8CE-494F-49C8-B784-EC76182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3EFA-E5FB-4D16-8C41-AAFDF59D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3062-82B7-42C9-A742-048E0F91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FDD-C021-493B-B7E0-35F52A7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24D-C784-4FF5-9740-1E5813C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65F-61B3-4A58-A301-86FF3D5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25F-B349-40BC-ACFC-6584F38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AD5-EDED-4A8C-8551-B46A706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9D2-05CF-409C-9FEB-6FEEE92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936-3099-44B9-93AF-8924BE4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9C8-CB79-4A68-8BEE-ECF9469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8904-3E5A-41A5-9A4B-5BA757F4F5C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9C4F-699D-4B9D-9E69-2AD4BAC1D43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уктур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8196" t="17709" r="18343" b="18078"/>
          <a:stretch/>
        </p:blipFill>
        <p:spPr>
          <a:xfrm>
            <a:off x="1469880" y="1309680"/>
            <a:ext cx="61898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20" y="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ложные выражения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1720" y="1150920"/>
            <a:ext cx="5200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ND = &amp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OR = | (shift+\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T = 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78400" y="2082960"/>
            <a:ext cx="1433520" cy="3412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80440" y="2098800"/>
            <a:ext cx="1433520" cy="3412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38480" y="2416320"/>
            <a:ext cx="1433520" cy="3412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8480" y="1487520"/>
            <a:ext cx="1433520" cy="3412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1101600"/>
            <a:ext cx="1433520" cy="3412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0440" y="1130400"/>
            <a:ext cx="1433520" cy="3412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05640" y="1171440"/>
            <a:ext cx="217440" cy="2178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80440" y="3014640"/>
            <a:ext cx="1433520" cy="3412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57960" y="2986200"/>
            <a:ext cx="1433520" cy="3412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871880" y="1476000"/>
            <a:ext cx="1406520" cy="655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13280" y="2116080"/>
            <a:ext cx="1311480" cy="1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84840" y="2133720"/>
            <a:ext cx="1406520" cy="927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18200" y="133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14720" y="1758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89480" y="2741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8560" y="4162320"/>
            <a:ext cx="731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elect carbone or nitrogen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elect (carbone or nitrogen) and protein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elect (carbone and protein) or (nitrogen and protein)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ерации в памя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5040" y="1522440"/>
            <a:ext cx="7389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Select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ёт выбор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strict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ёт выборку и прячете всё осталь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Define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ёт выборку и присваивает ей имя, сохраняя её до последующего использова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number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нумеровывает остат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36520"/>
            <a:ext cx="91440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ерации с изображение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236600" y="1206360"/>
            <a:ext cx="7214040" cy="4102200"/>
            <a:chOff x="1236600" y="1206360"/>
            <a:chExt cx="7214040" cy="4102200"/>
          </a:xfrm>
        </p:grpSpPr>
        <p:sp>
          <p:nvSpPr>
            <p:cNvPr id="384" name=""/>
            <p:cNvSpPr/>
            <p:nvPr/>
          </p:nvSpPr>
          <p:spPr>
            <a:xfrm>
              <a:off x="1236600" y="1206360"/>
              <a:ext cx="17287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backbon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5320" y="1206360"/>
              <a:ext cx="1727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backgrou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92960" y="1206360"/>
              <a:ext cx="17438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cartoo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37160" y="1206360"/>
              <a:ext cx="2013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centr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36600" y="1878120"/>
              <a:ext cx="1728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loa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5320" y="1878120"/>
              <a:ext cx="1727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colou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92960" y="1878120"/>
              <a:ext cx="174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echo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37160" y="1878120"/>
              <a:ext cx="201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cp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36600" y="2397240"/>
              <a:ext cx="1728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lab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5320" y="2397240"/>
              <a:ext cx="1727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dot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2960" y="2397240"/>
              <a:ext cx="174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rotat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37160" y="2397240"/>
              <a:ext cx="201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label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6600" y="2916360"/>
              <a:ext cx="17287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sbond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5320" y="2916360"/>
              <a:ext cx="17276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hbond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92960" y="2916360"/>
              <a:ext cx="1743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pacefill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37160" y="2916360"/>
              <a:ext cx="20134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reset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36600" y="3587760"/>
              <a:ext cx="1728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ta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65320" y="3587760"/>
              <a:ext cx="1727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refresh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92960" y="3587760"/>
              <a:ext cx="174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tereo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37160" y="3587760"/>
              <a:ext cx="201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strand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36600" y="4106880"/>
              <a:ext cx="17287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tra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65320" y="4106880"/>
              <a:ext cx="17276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ribbon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92960" y="4106880"/>
              <a:ext cx="1743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translat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37160" y="4106880"/>
              <a:ext cx="20134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wirefram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6600" y="4778280"/>
              <a:ext cx="1728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zoom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65320" y="4778280"/>
              <a:ext cx="1727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92960" y="4778280"/>
              <a:ext cx="17438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37160" y="4778280"/>
              <a:ext cx="2013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23840" y="-360"/>
            <a:ext cx="9469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H-bonds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24216" t="10480" r="32518" b="6523"/>
          <a:stretch/>
        </p:blipFill>
        <p:spPr>
          <a:xfrm>
            <a:off x="708120" y="887400"/>
            <a:ext cx="2011320" cy="47275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rcRect l="24526" t="11625" r="34221" b="6745"/>
          <a:stretch/>
        </p:blipFill>
        <p:spPr>
          <a:xfrm>
            <a:off x="3591000" y="925560"/>
            <a:ext cx="1917720" cy="4649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rcRect l="24255" t="10702" r="32789" b="7219"/>
          <a:stretch/>
        </p:blipFill>
        <p:spPr>
          <a:xfrm>
            <a:off x="6245280" y="925560"/>
            <a:ext cx="1996920" cy="467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071720" y="5810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bonds o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70640" y="58104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bonds 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95760" y="5810400"/>
            <a:ext cx="26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bonds 5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lor hbond gre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льфа-спирал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8328" t="18098" r="18476" b="18295"/>
          <a:stretch/>
        </p:blipFill>
        <p:spPr>
          <a:xfrm>
            <a:off x="1488960" y="1476360"/>
            <a:ext cx="61642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ета -лис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8343" t="18123" r="18476" b="18295"/>
          <a:stretch/>
        </p:blipFill>
        <p:spPr>
          <a:xfrm>
            <a:off x="1490760" y="1481040"/>
            <a:ext cx="616248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smol/Rasw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акет для визуализации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3D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труктур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оже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Построить любое изображение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звестной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3D структу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Сохранить изображение для восстановления, для печати, дл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рендеринга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Измерить расстояния, углы, торсионные угл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smol/Rasw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е може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Сравнивать, сов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м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ещать несколько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структур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Моделировать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Считать поверхность, доступность, совершать какие-либо численные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 операции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  <a:ea typeface="Times New Roman"/>
              </a:rPr>
              <a:t>Работать на уровне остатков/оснований, например, выделить целиком остатки белка, контактирующие с основаниями ДНК</a:t>
            </a:r>
            <a:r>
              <a:rPr b="0" lang="ru-RU" sz="3200" spc="-1" strike="noStrike">
                <a:solidFill>
                  <a:srgbClr val="eaeaea"/>
                </a:solidFill>
                <a:latin typeface="Times New Roman CYR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анды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smol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4440" y="1593720"/>
            <a:ext cx="25124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ерации с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айл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0240" y="1514520"/>
            <a:ext cx="2729160" cy="11746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0920" y="1514520"/>
            <a:ext cx="3041640" cy="11746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83200" y="1593720"/>
            <a:ext cx="27381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ерации со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руктур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" y="3029040"/>
            <a:ext cx="13129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Za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22680" y="3156120"/>
            <a:ext cx="2112840" cy="11746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5160" y="3156120"/>
            <a:ext cx="2292480" cy="11746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9400" y="3281400"/>
            <a:ext cx="19393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ерации в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амят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6360" y="3281400"/>
            <a:ext cx="23508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ерации с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ображ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89320" y="2033640"/>
            <a:ext cx="725760" cy="982440"/>
          </a:xfrm>
          <a:custGeom>
            <a:avLst/>
            <a:gdLst/>
            <a:ahLst/>
            <a:rect l="l" t="t" r="r" b="b"/>
            <a:pathLst>
              <a:path w="422" h="619">
                <a:moveTo>
                  <a:pt x="422" y="0"/>
                </a:moveTo>
                <a:lnTo>
                  <a:pt x="0" y="0"/>
                </a:lnTo>
                <a:lnTo>
                  <a:pt x="0" y="619"/>
                </a:lnTo>
              </a:path>
            </a:pathLst>
          </a:custGeom>
          <a:noFill/>
          <a:ln w="936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988400" y="2019240"/>
            <a:ext cx="627120" cy="982800"/>
          </a:xfrm>
          <a:custGeom>
            <a:avLst/>
            <a:gdLst/>
            <a:ahLst/>
            <a:rect l="l" t="t" r="r" b="b"/>
            <a:pathLst>
              <a:path w="422" h="619">
                <a:moveTo>
                  <a:pt x="422" y="0"/>
                </a:moveTo>
                <a:lnTo>
                  <a:pt x="0" y="0"/>
                </a:lnTo>
                <a:lnTo>
                  <a:pt x="0" y="619"/>
                </a:lnTo>
              </a:path>
            </a:pathLst>
          </a:custGeom>
          <a:noFill/>
          <a:ln w="936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8480" y="4538520"/>
            <a:ext cx="14396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stric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ef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numb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3720" y="4470480"/>
            <a:ext cx="119880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ot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ibb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571280" y="1119240"/>
            <a:ext cx="2127240" cy="382680"/>
          </a:xfrm>
          <a:custGeom>
            <a:avLst/>
            <a:gdLst/>
            <a:ahLst/>
            <a:rect l="l" t="t" r="r" b="b"/>
            <a:pathLst>
              <a:path w="422" h="619">
                <a:moveTo>
                  <a:pt x="422" y="0"/>
                </a:moveTo>
                <a:lnTo>
                  <a:pt x="0" y="0"/>
                </a:lnTo>
                <a:lnTo>
                  <a:pt x="0" y="619"/>
                </a:lnTo>
              </a:path>
            </a:pathLst>
          </a:custGeom>
          <a:noFill/>
          <a:ln w="936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13000" y="1114560"/>
            <a:ext cx="2239920" cy="382320"/>
          </a:xfrm>
          <a:custGeom>
            <a:avLst/>
            <a:gdLst/>
            <a:ahLst/>
            <a:rect l="l" t="t" r="r" b="b"/>
            <a:pathLst>
              <a:path w="422" h="619">
                <a:moveTo>
                  <a:pt x="422" y="0"/>
                </a:moveTo>
                <a:lnTo>
                  <a:pt x="0" y="0"/>
                </a:lnTo>
                <a:lnTo>
                  <a:pt x="0" y="619"/>
                </a:lnTo>
              </a:path>
            </a:pathLst>
          </a:custGeom>
          <a:noFill/>
          <a:ln w="936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ражения в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SMOL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040" y="955800"/>
            <a:ext cx="7886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мя_остатка/Номер_остатка/Имя_цепи.Имя_ато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11480" y="2114640"/>
            <a:ext cx="2921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Ser70A.C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417680"/>
            <a:ext cx="0" cy="5713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11480" y="3726000"/>
            <a:ext cx="2921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Ser*A.C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600" y="3738600"/>
            <a:ext cx="2347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*70A.C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05520" y="3726000"/>
            <a:ext cx="2921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Ser70*.C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857680"/>
            <a:ext cx="0" cy="5713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05640" y="2857680"/>
            <a:ext cx="1460160" cy="5713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184120" y="2857680"/>
            <a:ext cx="1173240" cy="5713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 выражений в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SMOL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1000" y="1173240"/>
            <a:ext cx="6591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Все атом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cys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во всех цистеина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hoh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в вод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as?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в аспарагине или аспартат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*120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в остатке 120 во всех цепя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*p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в цепи Р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*.n?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азо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cys.sg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Атомы серы в цистеина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ser70.c?   Атомы углерода в серине №70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*/4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Все атомы в модели 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648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едустановленные множеств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24040" y="1238400"/>
            <a:ext cx="7508520" cy="4952880"/>
            <a:chOff x="824040" y="1238400"/>
            <a:chExt cx="7508520" cy="4952880"/>
          </a:xfrm>
        </p:grpSpPr>
        <p:grpSp>
          <p:nvGrpSpPr>
            <p:cNvPr id="252" name=""/>
            <p:cNvGrpSpPr/>
            <p:nvPr/>
          </p:nvGrpSpPr>
          <p:grpSpPr>
            <a:xfrm>
              <a:off x="830520" y="1243080"/>
              <a:ext cx="7494120" cy="4943520"/>
              <a:chOff x="830520" y="1243080"/>
              <a:chExt cx="7494120" cy="494352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830520" y="1243080"/>
                <a:ext cx="1873080" cy="549360"/>
                <a:chOff x="830520" y="1243080"/>
                <a:chExt cx="1873080" cy="549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925200" y="124308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t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30520" y="12430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703960" y="1243080"/>
                <a:ext cx="1873080" cy="549360"/>
                <a:chOff x="2703960" y="1243080"/>
                <a:chExt cx="1873080" cy="549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98640" y="12430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cid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703960" y="12430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77760" y="1243080"/>
                <a:ext cx="1873080" cy="549360"/>
                <a:chOff x="4577760" y="1243080"/>
                <a:chExt cx="1873080" cy="5493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72440" y="12430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cycl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77760" y="12430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51560" y="1243080"/>
                <a:ext cx="1873080" cy="549360"/>
                <a:chOff x="6451560" y="1243080"/>
                <a:chExt cx="1873080" cy="5493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46240" y="12430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liphat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51560" y="12430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30520" y="1792440"/>
                <a:ext cx="1873080" cy="549360"/>
                <a:chOff x="830520" y="1792440"/>
                <a:chExt cx="1873080" cy="549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925200" y="179244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lpha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0520" y="17924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703960" y="1792440"/>
                <a:ext cx="1873080" cy="549360"/>
                <a:chOff x="2703960" y="1792440"/>
                <a:chExt cx="1873080" cy="5493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798640" y="17924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mino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703960" y="17924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577760" y="1792440"/>
                <a:ext cx="1873080" cy="549360"/>
                <a:chOff x="4577760" y="1792440"/>
                <a:chExt cx="1873080" cy="5493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72440" y="17924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aromat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77760" y="17924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451560" y="1792440"/>
                <a:ext cx="1873080" cy="549360"/>
                <a:chOff x="6451560" y="1792440"/>
                <a:chExt cx="1873080" cy="5493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546240" y="17924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backbon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451560" y="17924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830520" y="2341800"/>
                <a:ext cx="1873080" cy="549000"/>
                <a:chOff x="830520" y="2341800"/>
                <a:chExt cx="1873080" cy="5490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925200" y="2341800"/>
                  <a:ext cx="16837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bas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30520" y="234180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03960" y="2341800"/>
                <a:ext cx="1873080" cy="549000"/>
                <a:chOff x="2703960" y="2341800"/>
                <a:chExt cx="1873080" cy="549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98640" y="234180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bonded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03960" y="234180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577760" y="2341800"/>
                <a:ext cx="1873080" cy="549000"/>
                <a:chOff x="4577760" y="2341800"/>
                <a:chExt cx="1873080" cy="549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672440" y="234180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buried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577760" y="234180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451560" y="2341800"/>
                <a:ext cx="1873080" cy="549000"/>
                <a:chOff x="6451560" y="2341800"/>
                <a:chExt cx="1873080" cy="5490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546240" y="234180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cg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451560" y="234180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830520" y="2890800"/>
                <a:ext cx="1873080" cy="549360"/>
                <a:chOff x="830520" y="2890800"/>
                <a:chExt cx="1873080" cy="549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925200" y="289080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charged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30520" y="289080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03960" y="2890800"/>
                <a:ext cx="1873080" cy="549360"/>
                <a:chOff x="2703960" y="2890800"/>
                <a:chExt cx="1873080" cy="549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798640" y="289080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cycl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03960" y="289080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577760" y="2890800"/>
                <a:ext cx="1873080" cy="549360"/>
                <a:chOff x="4577760" y="2890800"/>
                <a:chExt cx="1873080" cy="5493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672440" y="289080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cystin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577760" y="289080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451560" y="2890800"/>
                <a:ext cx="1873080" cy="549360"/>
                <a:chOff x="6451560" y="2890800"/>
                <a:chExt cx="1873080" cy="5493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546240" y="289080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helix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451560" y="289080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830520" y="3440160"/>
                <a:ext cx="1873080" cy="549360"/>
                <a:chOff x="830520" y="3440160"/>
                <a:chExt cx="1873080" cy="5493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925200" y="344016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hetero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30520" y="344016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703960" y="3440160"/>
                <a:ext cx="1873080" cy="549360"/>
                <a:chOff x="2703960" y="3440160"/>
                <a:chExt cx="1873080" cy="5493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798640" y="344016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hydrogen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703960" y="344016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577760" y="3440160"/>
                <a:ext cx="1873080" cy="549360"/>
                <a:chOff x="4577760" y="3440160"/>
                <a:chExt cx="1873080" cy="549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672440" y="344016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hydrophob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577760" y="344016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451560" y="3440160"/>
                <a:ext cx="1873080" cy="549360"/>
                <a:chOff x="6451560" y="3440160"/>
                <a:chExt cx="1873080" cy="5493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546240" y="344016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ions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451560" y="344016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830520" y="3989520"/>
                <a:ext cx="1873080" cy="549360"/>
                <a:chOff x="830520" y="3989520"/>
                <a:chExt cx="1873080" cy="5493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925200" y="398952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larg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30520" y="398952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703960" y="3989520"/>
                <a:ext cx="1873080" cy="549360"/>
                <a:chOff x="2703960" y="3989520"/>
                <a:chExt cx="1873080" cy="5493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798640" y="398952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ligand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703960" y="398952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577760" y="3989520"/>
                <a:ext cx="1873080" cy="549360"/>
                <a:chOff x="4577760" y="3989520"/>
                <a:chExt cx="1873080" cy="5493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672440" y="398952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medium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77760" y="398952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6451560" y="3989520"/>
                <a:ext cx="1873080" cy="549360"/>
                <a:chOff x="6451560" y="3989520"/>
                <a:chExt cx="1873080" cy="54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46240" y="398952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neutral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451560" y="398952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30520" y="4538880"/>
                <a:ext cx="1873080" cy="549000"/>
                <a:chOff x="830520" y="4538880"/>
                <a:chExt cx="1873080" cy="549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925200" y="4538880"/>
                  <a:ext cx="16837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nucleic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30520" y="453888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703960" y="4538880"/>
                <a:ext cx="1873080" cy="549000"/>
                <a:chOff x="2703960" y="4538880"/>
                <a:chExt cx="1873080" cy="5490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98640" y="453888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polar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703960" y="453888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77760" y="4538880"/>
                <a:ext cx="1873080" cy="549000"/>
                <a:chOff x="4577760" y="4538880"/>
                <a:chExt cx="1873080" cy="5490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672440" y="453888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protein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77760" y="453888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451560" y="4538880"/>
                <a:ext cx="1873080" cy="549000"/>
                <a:chOff x="6451560" y="4538880"/>
                <a:chExt cx="1873080" cy="5490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546240" y="4538880"/>
                  <a:ext cx="1684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purin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51560" y="4538880"/>
                  <a:ext cx="187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830520" y="5087880"/>
                <a:ext cx="1873080" cy="549360"/>
                <a:chOff x="830520" y="5087880"/>
                <a:chExt cx="1873080" cy="549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925200" y="508788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pyrimidin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30520" y="50878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703960" y="5087880"/>
                <a:ext cx="1873080" cy="549360"/>
                <a:chOff x="2703960" y="5087880"/>
                <a:chExt cx="1873080" cy="5493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798640" y="50878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elected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703960" y="50878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577760" y="5087880"/>
                <a:ext cx="1873080" cy="549360"/>
                <a:chOff x="4577760" y="5087880"/>
                <a:chExt cx="1873080" cy="549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672440" y="50878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heet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77760" y="50878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451560" y="5087880"/>
                <a:ext cx="1873080" cy="549360"/>
                <a:chOff x="6451560" y="5087880"/>
                <a:chExt cx="1873080" cy="5493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546240" y="508788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idechain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451560" y="508788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830520" y="5637240"/>
                <a:ext cx="1873080" cy="549360"/>
                <a:chOff x="830520" y="5637240"/>
                <a:chExt cx="1873080" cy="549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25200" y="5637240"/>
                  <a:ext cx="168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mall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30520" y="56372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703960" y="5637240"/>
                <a:ext cx="1873080" cy="549360"/>
                <a:chOff x="2703960" y="5637240"/>
                <a:chExt cx="1873080" cy="549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798640" y="56372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olvent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703960" y="56372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577760" y="5637240"/>
                <a:ext cx="1873080" cy="549360"/>
                <a:chOff x="4577760" y="5637240"/>
                <a:chExt cx="1873080" cy="5493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672440" y="56372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surface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77760" y="56372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1560" y="5637240"/>
                <a:ext cx="1873080" cy="549360"/>
                <a:chOff x="6451560" y="5637240"/>
                <a:chExt cx="1873080" cy="5493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546240" y="5637240"/>
                  <a:ext cx="1684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Times New Roman"/>
                    </a:rPr>
                    <a:t>turn</a:t>
                  </a: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1560" y="5637240"/>
                  <a:ext cx="187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824040" y="1238400"/>
              <a:ext cx="750852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20:39:11Z</dcterms:created>
  <dc:creator>Kopylov</dc:creator>
  <dc:description/>
  <dc:language>en-US</dc:language>
  <cp:lastModifiedBy>Anur</cp:lastModifiedBy>
  <dcterms:modified xsi:type="dcterms:W3CDTF">2003-10-21T17:46:13Z</dcterms:modified>
  <cp:revision>43</cp:revision>
  <dc:subject/>
  <dc:title>Excel</dc:title>
</cp:coreProperties>
</file>