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633D-C26A-4DFD-B228-0DFE61AF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B1E-C738-4F30-9C08-F76CCF7E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CDD-76BD-4704-9E8A-5D31FD57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4D4-E83B-4428-9FB1-8445E70D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7207-5763-4737-BFE7-5B773EC7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59FB-4424-4B47-B0E7-D1547AA7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C573-2982-4F58-9C8D-E2F95745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298F-8DDC-489B-9343-FB48D766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6B5F-19F4-488D-B48F-ACB6CEA6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011D-3508-4B2C-9593-C655C760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8A1D-043E-4DB0-A2BE-169947EF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119-1004-4E5E-869D-399590FA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14D7-6519-49C7-BD92-BBA58F2F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F434-743B-47A3-A9CB-E33A9738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1A38-B5AA-48C7-A332-8F001395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80EE-9B8B-4749-860B-25E825DE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4C9B-47AC-4552-899F-2C8907E6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59A-CEEC-4EA1-A4BC-72D15721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4B3-2AD3-48AD-BEEE-A107E450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456-C5F1-4ADC-B880-8A36ECCB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59C-A68A-4D78-9C0F-8E1D441E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5DA4-19DC-4EF3-9C11-782FF00E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DAE-A4E5-4087-9188-9C7C00C2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703-6BBA-4FE3-B661-EDD8C29F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0F25-A144-48F8-95EE-C847E444DEA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0E8A-CDAE-4A2C-AA0C-1F6995963C6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ACD/ChemSketch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Это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акет для изображения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Химических структур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Химических реакци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хематических диаграм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оздание отчётов и презентаций связанных с  хими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ACD/ChemSketch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Это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акет для изображения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Химических структур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Химических реакци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хематических диаграм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оздание отчётов и презентаций связанных с  хими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08080" y="1911240"/>
            <a:ext cx="4363920" cy="39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ACD/ChemSketch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800" y="1127160"/>
            <a:ext cx="8996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emsketch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работает с векторной графико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30040" y="1920960"/>
          <a:ext cx="43419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920960"/>
                    <a:ext cx="43419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" descr=""/>
          <p:cNvPicPr/>
          <p:nvPr/>
        </p:nvPicPr>
        <p:blipFill>
          <a:blip r:embed="rId3"/>
          <a:srcRect l="69955" t="30012" r="22445" b="59830"/>
          <a:stretch/>
        </p:blipFill>
        <p:spPr>
          <a:xfrm>
            <a:off x="4809960" y="1884240"/>
            <a:ext cx="4057920" cy="3929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68280" y="6016680"/>
            <a:ext cx="3786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екторная графи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7640" y="5986440"/>
            <a:ext cx="381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растровая графи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96880" y="1027080"/>
            <a:ext cx="7948800" cy="57596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Рабочее окно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hemSketch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87400" y="3429000"/>
            <a:ext cx="519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88520" y="3108240"/>
            <a:ext cx="22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опки для работы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атомам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254480" y="1131840"/>
            <a:ext cx="4231080" cy="642600"/>
            <a:chOff x="4254480" y="1131840"/>
            <a:chExt cx="4231080" cy="642600"/>
          </a:xfrm>
        </p:grpSpPr>
        <p:sp>
          <p:nvSpPr>
            <p:cNvPr id="227" name=""/>
            <p:cNvSpPr/>
            <p:nvPr/>
          </p:nvSpPr>
          <p:spPr>
            <a:xfrm>
              <a:off x="4254480" y="1628640"/>
              <a:ext cx="204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82360" y="1131840"/>
              <a:ext cx="22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нопки для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боты со связями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165400" y="1528920"/>
            <a:ext cx="1174680" cy="973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75000" y="234792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опки для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ы с файлам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42120" y="1533600"/>
            <a:ext cx="649080" cy="210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77000" y="3703680"/>
            <a:ext cx="219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опки для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я увеличением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327400" y="5855760"/>
            <a:ext cx="2987640" cy="784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42120" y="5207040"/>
            <a:ext cx="20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листов входящих в фай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0" t="9073" r="38200" b="86994"/>
          <a:stretch/>
        </p:blipFill>
        <p:spPr>
          <a:xfrm>
            <a:off x="90360" y="812880"/>
            <a:ext cx="9010800" cy="4158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нель инструментов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hemSketc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9560" y="1268280"/>
            <a:ext cx="1800" cy="2460600"/>
          </a:xfrm>
          <a:prstGeom prst="line">
            <a:avLst/>
          </a:prstGeom>
          <a:ln w="1908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0040" y="3857760"/>
            <a:ext cx="321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нопки для выделения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еремещения и вращения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79800" y="1297080"/>
            <a:ext cx="1440" cy="1218960"/>
          </a:xfrm>
          <a:prstGeom prst="line">
            <a:avLst/>
          </a:prstGeom>
          <a:ln w="1908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17760" y="249696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нопки для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оздания связ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678120" y="1270080"/>
            <a:ext cx="12960" cy="1643040"/>
          </a:xfrm>
          <a:prstGeom prst="line">
            <a:avLst/>
          </a:prstGeom>
          <a:ln w="1908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02040" y="297036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нопки для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изменения связ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589720" y="1235160"/>
            <a:ext cx="449280" cy="509400"/>
          </a:xfrm>
          <a:prstGeom prst="line">
            <a:avLst/>
          </a:prstGeom>
          <a:ln w="1908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06760" y="1774800"/>
            <a:ext cx="262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нопки для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риентации связей и структу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75280" y="2970360"/>
            <a:ext cx="26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лонирование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труктур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900840" y="1330200"/>
            <a:ext cx="681120" cy="1573200"/>
          </a:xfrm>
          <a:prstGeom prst="line">
            <a:avLst/>
          </a:prstGeom>
          <a:ln w="1908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03720" y="4021200"/>
            <a:ext cx="26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D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птимизация структур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093080" y="1303200"/>
            <a:ext cx="1008000" cy="2610000"/>
          </a:xfrm>
          <a:prstGeom prst="line">
            <a:avLst/>
          </a:prstGeom>
          <a:ln w="1908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174080" y="1344600"/>
            <a:ext cx="1568160" cy="3824280"/>
          </a:xfrm>
          <a:prstGeom prst="line">
            <a:avLst/>
          </a:prstGeom>
          <a:ln w="1908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4896000"/>
            <a:ext cx="26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D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птимизация структур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64800"/>
            <a:ext cx="8226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ecff"/>
                </a:solidFill>
                <a:latin typeface="Arial"/>
              </a:rPr>
              <a:t>Рисуем </a:t>
            </a: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Trp.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62120" y="985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Окно работы с графическими объектами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65560" y="5913360"/>
            <a:ext cx="1239840" cy="54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16920" y="627552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Тип открываемого файл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27040" y="768240"/>
            <a:ext cx="8089920" cy="58626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887400" y="3429000"/>
            <a:ext cx="519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87800" y="3108240"/>
            <a:ext cx="24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опки для создания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х объект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71680" y="1446120"/>
            <a:ext cx="1174680" cy="973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52560" y="2181240"/>
            <a:ext cx="41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опки для редактирова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изменения положения объект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rcRect l="0" t="13322" r="97268" b="41622"/>
          <a:stretch/>
        </p:blipFill>
        <p:spPr>
          <a:xfrm>
            <a:off x="201600" y="795240"/>
            <a:ext cx="485640" cy="58006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нель инструментов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hemSketc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3280" y="1009800"/>
            <a:ext cx="1149120" cy="4680"/>
          </a:xfrm>
          <a:prstGeom prst="line">
            <a:avLst/>
          </a:prstGeom>
          <a:ln w="1908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46320" y="817560"/>
            <a:ext cx="294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Инструмент ли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85880" y="1378080"/>
            <a:ext cx="4267080" cy="368280"/>
            <a:chOff x="785880" y="1378080"/>
            <a:chExt cx="4267080" cy="368280"/>
          </a:xfrm>
        </p:grpSpPr>
        <p:sp>
          <p:nvSpPr>
            <p:cNvPr id="266" name=""/>
            <p:cNvSpPr/>
            <p:nvPr/>
          </p:nvSpPr>
          <p:spPr>
            <a:xfrm>
              <a:off x="785880" y="1569960"/>
              <a:ext cx="1149120" cy="468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04920" y="1378080"/>
              <a:ext cx="294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aeaea"/>
                  </a:solidFill>
                  <a:latin typeface="Arial"/>
                </a:rPr>
                <a:t>Инструмент дуга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785880" y="1731960"/>
            <a:ext cx="4267080" cy="368280"/>
            <a:chOff x="785880" y="1731960"/>
            <a:chExt cx="4267080" cy="368280"/>
          </a:xfrm>
        </p:grpSpPr>
        <p:sp>
          <p:nvSpPr>
            <p:cNvPr id="269" name=""/>
            <p:cNvSpPr/>
            <p:nvPr/>
          </p:nvSpPr>
          <p:spPr>
            <a:xfrm>
              <a:off x="785880" y="1923840"/>
              <a:ext cx="1149120" cy="468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04920" y="1731960"/>
              <a:ext cx="294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aeaea"/>
                  </a:solidFill>
                  <a:latin typeface="Arial"/>
                </a:rPr>
                <a:t>Инструмент кривая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85880" y="2182680"/>
            <a:ext cx="5127120" cy="368280"/>
            <a:chOff x="785880" y="2182680"/>
            <a:chExt cx="5127120" cy="368280"/>
          </a:xfrm>
        </p:grpSpPr>
        <p:sp>
          <p:nvSpPr>
            <p:cNvPr id="272" name=""/>
            <p:cNvSpPr/>
            <p:nvPr/>
          </p:nvSpPr>
          <p:spPr>
            <a:xfrm>
              <a:off x="785880" y="2374560"/>
              <a:ext cx="1380600" cy="468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70600" y="2182680"/>
              <a:ext cx="354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aeaea"/>
                  </a:solidFill>
                  <a:latin typeface="Arial"/>
                </a:rPr>
                <a:t>Инструмент кривая Бизье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785880" y="2743200"/>
            <a:ext cx="4267080" cy="368280"/>
            <a:chOff x="785880" y="2743200"/>
            <a:chExt cx="4267080" cy="368280"/>
          </a:xfrm>
        </p:grpSpPr>
        <p:sp>
          <p:nvSpPr>
            <p:cNvPr id="275" name=""/>
            <p:cNvSpPr/>
            <p:nvPr/>
          </p:nvSpPr>
          <p:spPr>
            <a:xfrm>
              <a:off x="785880" y="2935080"/>
              <a:ext cx="1149120" cy="468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04920" y="2743200"/>
              <a:ext cx="294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aeaea"/>
                  </a:solidFill>
                  <a:latin typeface="Arial"/>
                </a:rPr>
                <a:t>Инструмент стрела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785880" y="3244680"/>
            <a:ext cx="5181120" cy="368280"/>
            <a:chOff x="785880" y="3244680"/>
            <a:chExt cx="5181120" cy="368280"/>
          </a:xfrm>
        </p:grpSpPr>
        <p:sp>
          <p:nvSpPr>
            <p:cNvPr id="278" name=""/>
            <p:cNvSpPr/>
            <p:nvPr/>
          </p:nvSpPr>
          <p:spPr>
            <a:xfrm>
              <a:off x="785880" y="3436560"/>
              <a:ext cx="1395000" cy="468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87520" y="3244680"/>
              <a:ext cx="35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aeaea"/>
                  </a:solidFill>
                  <a:latin typeface="Arial"/>
                </a:rPr>
                <a:t>Инструмент прямоугольник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785880" y="4159080"/>
            <a:ext cx="4267080" cy="368280"/>
            <a:chOff x="785880" y="4159080"/>
            <a:chExt cx="4267080" cy="368280"/>
          </a:xfrm>
        </p:grpSpPr>
        <p:sp>
          <p:nvSpPr>
            <p:cNvPr id="281" name=""/>
            <p:cNvSpPr/>
            <p:nvPr/>
          </p:nvSpPr>
          <p:spPr>
            <a:xfrm>
              <a:off x="785880" y="4350960"/>
              <a:ext cx="1149120" cy="468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04920" y="4159080"/>
              <a:ext cx="294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aeaea"/>
                  </a:solidFill>
                  <a:latin typeface="Arial"/>
                </a:rPr>
                <a:t>Инструмент окружность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85880" y="4608360"/>
            <a:ext cx="4267080" cy="368280"/>
            <a:chOff x="785880" y="4608360"/>
            <a:chExt cx="4267080" cy="368280"/>
          </a:xfrm>
        </p:grpSpPr>
        <p:sp>
          <p:nvSpPr>
            <p:cNvPr id="284" name=""/>
            <p:cNvSpPr/>
            <p:nvPr/>
          </p:nvSpPr>
          <p:spPr>
            <a:xfrm>
              <a:off x="785880" y="4800240"/>
              <a:ext cx="1149120" cy="468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04920" y="4608360"/>
              <a:ext cx="294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aeaea"/>
                  </a:solidFill>
                  <a:latin typeface="Arial"/>
                </a:rPr>
                <a:t>Инструмент полигон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85880" y="5127480"/>
            <a:ext cx="4267080" cy="368280"/>
            <a:chOff x="785880" y="5127480"/>
            <a:chExt cx="4267080" cy="368280"/>
          </a:xfrm>
        </p:grpSpPr>
        <p:sp>
          <p:nvSpPr>
            <p:cNvPr id="287" name=""/>
            <p:cNvSpPr/>
            <p:nvPr/>
          </p:nvSpPr>
          <p:spPr>
            <a:xfrm>
              <a:off x="785880" y="5319360"/>
              <a:ext cx="1149120" cy="468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04920" y="5127480"/>
              <a:ext cx="294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aeaea"/>
                  </a:solidFill>
                  <a:latin typeface="Arial"/>
                </a:rPr>
                <a:t>Инструмент текст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85880" y="5632560"/>
            <a:ext cx="4267080" cy="368280"/>
            <a:chOff x="785880" y="5632560"/>
            <a:chExt cx="4267080" cy="368280"/>
          </a:xfrm>
        </p:grpSpPr>
        <p:sp>
          <p:nvSpPr>
            <p:cNvPr id="290" name=""/>
            <p:cNvSpPr/>
            <p:nvPr/>
          </p:nvSpPr>
          <p:spPr>
            <a:xfrm>
              <a:off x="785880" y="5824440"/>
              <a:ext cx="1149120" cy="468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04920" y="5632560"/>
              <a:ext cx="294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aeaea"/>
                  </a:solidFill>
                  <a:latin typeface="Arial"/>
                </a:rPr>
                <a:t>Инструмент скобки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85880" y="6122880"/>
            <a:ext cx="5113080" cy="368280"/>
            <a:chOff x="785880" y="6122880"/>
            <a:chExt cx="5113080" cy="368280"/>
          </a:xfrm>
        </p:grpSpPr>
        <p:sp>
          <p:nvSpPr>
            <p:cNvPr id="293" name=""/>
            <p:cNvSpPr/>
            <p:nvPr/>
          </p:nvSpPr>
          <p:spPr>
            <a:xfrm>
              <a:off x="785880" y="6314760"/>
              <a:ext cx="1377000" cy="468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66280" y="6122880"/>
              <a:ext cx="353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aeaea"/>
                  </a:solidFill>
                  <a:latin typeface="Arial"/>
                </a:rPr>
                <a:t>Инструмент примечания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36520"/>
            <a:ext cx="91440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Химические реакции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62120" y="971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123840" y="-360"/>
            <a:ext cx="94694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ecff"/>
                </a:solidFill>
                <a:latin typeface="Arial"/>
              </a:rPr>
              <a:t>Просмотр пространственной структуры молекулы.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62120" y="7318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20:39:11Z</dcterms:created>
  <dc:creator>Kopylov</dc:creator>
  <dc:description/>
  <dc:language>en-US</dc:language>
  <cp:lastModifiedBy>test</cp:lastModifiedBy>
  <dcterms:modified xsi:type="dcterms:W3CDTF">2004-03-03T15:43:51Z</dcterms:modified>
  <cp:revision>35</cp:revision>
  <dc:subject/>
  <dc:title>Excel</dc:title>
</cp:coreProperties>
</file>